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45A-B153-4A50-8A3B-7DECA5A0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E96-A507-4451-87AA-33E8BEF5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8C9-DBAE-4163-9D6B-0468282C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8C54-260D-437B-A67C-B86C3B93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EF23-ED95-48C1-8B1C-9C77FC32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0167-0533-41DB-A27E-197D080C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75B9-98B7-473E-8FE9-CC7875B0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4FB8-A1FB-4165-AD1D-78E41F8C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B82F-9081-4644-8215-3B693793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FB3D-3364-4D2B-B9C2-BEB33E26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6481-CA78-49A9-ABF1-73DF3327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D6A0-7BFC-4549-AA3F-80F56BF7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237B-8322-49EA-B189-E669266C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726F-D3EA-42F3-BE69-0473A7E5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9F26-F589-4E98-B9D8-C345EBD8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4866-6310-4051-8A20-370B19DD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539C-168C-49B0-893B-8DC0479C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90D-83E6-41FA-AC1A-E39DA4D6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70B1-C70C-4B6F-83CF-D1E3356E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9E12-EC78-42AA-A8BF-E3066C11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EDEB-B701-4AE7-B7A6-7E110028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95AA-83C4-4C64-87E5-3057ADFE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5FE8-91FA-40AF-A6F0-3722155F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B5C-C56B-4FBC-BEDF-D403B351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5D86-F6DB-4B25-850B-A7626117F2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FE26-9C1C-4AE8-B960-6C48239F08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icken Chicken Chicken: Chicken Chick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ug Zongk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ity of Washingt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scatter1" descr=""/>
          <p:cNvPicPr/>
          <p:nvPr/>
        </p:nvPicPr>
        <p:blipFill>
          <a:blip r:embed="rId1"/>
          <a:stretch/>
        </p:blipFill>
        <p:spPr>
          <a:xfrm>
            <a:off x="1413000" y="684360"/>
            <a:ext cx="7350120" cy="54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scatter2" descr=""/>
          <p:cNvPicPr/>
          <p:nvPr/>
        </p:nvPicPr>
        <p:blipFill>
          <a:blip r:embed="rId1"/>
          <a:stretch/>
        </p:blipFill>
        <p:spPr>
          <a:xfrm>
            <a:off x="1415880" y="681120"/>
            <a:ext cx="7350120" cy="548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scatter3" descr=""/>
          <p:cNvPicPr/>
          <p:nvPr/>
        </p:nvPicPr>
        <p:blipFill>
          <a:blip r:embed="rId1"/>
          <a:stretch/>
        </p:blipFill>
        <p:spPr>
          <a:xfrm>
            <a:off x="1415880" y="681120"/>
            <a:ext cx="7350120" cy="548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block1" descr=""/>
          <p:cNvPicPr/>
          <p:nvPr/>
        </p:nvPicPr>
        <p:blipFill>
          <a:blip r:embed="rId1"/>
          <a:stretch/>
        </p:blipFill>
        <p:spPr>
          <a:xfrm>
            <a:off x="2112840" y="230040"/>
            <a:ext cx="4918320" cy="639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block2" descr=""/>
          <p:cNvPicPr/>
          <p:nvPr/>
        </p:nvPicPr>
        <p:blipFill>
          <a:blip r:embed="rId1"/>
          <a:stretch/>
        </p:blipFill>
        <p:spPr>
          <a:xfrm>
            <a:off x="2112840" y="230040"/>
            <a:ext cx="4918320" cy="639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block3" descr=""/>
          <p:cNvPicPr/>
          <p:nvPr/>
        </p:nvPicPr>
        <p:blipFill>
          <a:blip r:embed="rId1"/>
          <a:stretch/>
        </p:blipFill>
        <p:spPr>
          <a:xfrm>
            <a:off x="2112840" y="230040"/>
            <a:ext cx="4918320" cy="639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block4" descr=""/>
          <p:cNvPicPr/>
          <p:nvPr/>
        </p:nvPicPr>
        <p:blipFill>
          <a:blip r:embed="rId1"/>
          <a:stretch/>
        </p:blipFill>
        <p:spPr>
          <a:xfrm>
            <a:off x="2112840" y="230040"/>
            <a:ext cx="4918320" cy="639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block5" descr=""/>
          <p:cNvPicPr/>
          <p:nvPr/>
        </p:nvPicPr>
        <p:blipFill>
          <a:blip r:embed="rId1"/>
          <a:stretch/>
        </p:blipFill>
        <p:spPr>
          <a:xfrm>
            <a:off x="2112840" y="230040"/>
            <a:ext cx="4918320" cy="639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block6" descr=""/>
          <p:cNvPicPr/>
          <p:nvPr/>
        </p:nvPicPr>
        <p:blipFill>
          <a:blip r:embed="rId1"/>
          <a:stretch/>
        </p:blipFill>
        <p:spPr>
          <a:xfrm>
            <a:off x="2112840" y="230040"/>
            <a:ext cx="4918320" cy="639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block7" descr=""/>
          <p:cNvPicPr/>
          <p:nvPr/>
        </p:nvPicPr>
        <p:blipFill>
          <a:blip r:embed="rId1"/>
          <a:stretch/>
        </p:blipFill>
        <p:spPr>
          <a:xfrm>
            <a:off x="2112840" y="230040"/>
            <a:ext cx="4918320" cy="639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ick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Chicken 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Chicken chicken 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block8" descr=""/>
          <p:cNvPicPr/>
          <p:nvPr/>
        </p:nvPicPr>
        <p:blipFill>
          <a:blip r:embed="rId1"/>
          <a:stretch/>
        </p:blipFill>
        <p:spPr>
          <a:xfrm>
            <a:off x="2112840" y="230040"/>
            <a:ext cx="4918320" cy="639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ick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Chicken 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icken chicken 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speed1" descr=""/>
          <p:cNvPicPr/>
          <p:nvPr/>
        </p:nvPicPr>
        <p:blipFill>
          <a:blip r:embed="rId1"/>
          <a:stretch/>
        </p:blipFill>
        <p:spPr>
          <a:xfrm>
            <a:off x="73080" y="136440"/>
            <a:ext cx="864720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speed2" descr=""/>
          <p:cNvPicPr/>
          <p:nvPr/>
        </p:nvPicPr>
        <p:blipFill>
          <a:blip r:embed="rId1"/>
          <a:stretch/>
        </p:blipFill>
        <p:spPr>
          <a:xfrm>
            <a:off x="73080" y="136440"/>
            <a:ext cx="864720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speed3" descr=""/>
          <p:cNvPicPr/>
          <p:nvPr/>
        </p:nvPicPr>
        <p:blipFill>
          <a:blip r:embed="rId1"/>
          <a:stretch/>
        </p:blipFill>
        <p:spPr>
          <a:xfrm>
            <a:off x="73080" y="136440"/>
            <a:ext cx="864720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speed4" descr=""/>
          <p:cNvPicPr/>
          <p:nvPr/>
        </p:nvPicPr>
        <p:blipFill>
          <a:blip r:embed="rId1"/>
          <a:stretch/>
        </p:blipFill>
        <p:spPr>
          <a:xfrm>
            <a:off x="73080" y="136440"/>
            <a:ext cx="864720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speed5" descr=""/>
          <p:cNvPicPr/>
          <p:nvPr/>
        </p:nvPicPr>
        <p:blipFill>
          <a:blip r:embed="rId1"/>
          <a:stretch/>
        </p:blipFill>
        <p:spPr>
          <a:xfrm>
            <a:off x="73080" y="136440"/>
            <a:ext cx="864720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speed6" descr=""/>
          <p:cNvPicPr/>
          <p:nvPr/>
        </p:nvPicPr>
        <p:blipFill>
          <a:blip r:embed="rId1"/>
          <a:stretch/>
        </p:blipFill>
        <p:spPr>
          <a:xfrm>
            <a:off x="73080" y="136440"/>
            <a:ext cx="864720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icke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cken chick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ckens chick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c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cken C-10493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cken chicken chicke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ccc://chicken.chicken.chk/~chickens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019240" y="0"/>
            <a:ext cx="51055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Tahoma"/>
              </a:rPr>
              <a:t>Chicken chicken, chicken chicken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icken chick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flow1" descr=""/>
          <p:cNvPicPr/>
          <p:nvPr/>
        </p:nvPicPr>
        <p:blipFill>
          <a:blip r:embed="rId1"/>
          <a:stretch/>
        </p:blipFill>
        <p:spPr>
          <a:xfrm>
            <a:off x="1828800" y="2193840"/>
            <a:ext cx="53341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ickens chickens chick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ckens chick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eq3" descr=""/>
          <p:cNvPicPr/>
          <p:nvPr/>
        </p:nvPicPr>
        <p:blipFill>
          <a:blip r:embed="rId1"/>
          <a:stretch/>
        </p:blipFill>
        <p:spPr>
          <a:xfrm>
            <a:off x="2514600" y="5867280"/>
            <a:ext cx="4113360" cy="541440"/>
          </a:xfrm>
          <a:prstGeom prst="rect">
            <a:avLst/>
          </a:prstGeom>
          <a:ln w="0">
            <a:noFill/>
          </a:ln>
        </p:spPr>
      </p:pic>
      <p:pic>
        <p:nvPicPr>
          <p:cNvPr id="143" name="eq2" descr=""/>
          <p:cNvPicPr/>
          <p:nvPr/>
        </p:nvPicPr>
        <p:blipFill>
          <a:blip r:embed="rId2"/>
          <a:stretch/>
        </p:blipFill>
        <p:spPr>
          <a:xfrm>
            <a:off x="1784520" y="2643120"/>
            <a:ext cx="5573520" cy="1131840"/>
          </a:xfrm>
          <a:prstGeom prst="rect">
            <a:avLst/>
          </a:prstGeom>
          <a:ln w="0">
            <a:noFill/>
          </a:ln>
        </p:spPr>
      </p:pic>
      <p:pic>
        <p:nvPicPr>
          <p:cNvPr id="144" name="eq1" descr=""/>
          <p:cNvPicPr/>
          <p:nvPr/>
        </p:nvPicPr>
        <p:blipFill>
          <a:blip r:embed="rId3"/>
          <a:stretch/>
        </p:blipFill>
        <p:spPr>
          <a:xfrm>
            <a:off x="1503360" y="4809960"/>
            <a:ext cx="6135840" cy="905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981080" y="4038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c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icken chick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flow2" descr=""/>
          <p:cNvPicPr/>
          <p:nvPr/>
        </p:nvPicPr>
        <p:blipFill>
          <a:blip r:embed="rId1"/>
          <a:stretch/>
        </p:blipFill>
        <p:spPr>
          <a:xfrm>
            <a:off x="1827360" y="2192400"/>
            <a:ext cx="53290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icken chick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flow3" descr=""/>
          <p:cNvPicPr/>
          <p:nvPr/>
        </p:nvPicPr>
        <p:blipFill>
          <a:blip r:embed="rId1"/>
          <a:stretch/>
        </p:blipFill>
        <p:spPr>
          <a:xfrm>
            <a:off x="1827360" y="2192400"/>
            <a:ext cx="5329080" cy="404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icken chick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flow3" descr=""/>
          <p:cNvPicPr/>
          <p:nvPr/>
        </p:nvPicPr>
        <p:blipFill>
          <a:blip r:embed="rId1"/>
          <a:stretch/>
        </p:blipFill>
        <p:spPr>
          <a:xfrm>
            <a:off x="1827360" y="2192400"/>
            <a:ext cx="5329080" cy="4049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2120" y="3565440"/>
            <a:ext cx="754380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hicken:  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hicken chicken </a:t>
            </a:r>
            <a:r>
              <a:rPr b="1" lang="en-US" sz="4000" spc="-1" strike="noStrike">
                <a:solidFill>
                  <a:srgbClr val="ffcf01"/>
                </a:solidFill>
                <a:latin typeface="Tahoma"/>
              </a:rPr>
              <a:t>chicken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 chickens chick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ick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icken 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Chicken chicken 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icken chick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cken chicken/chick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cken-chicken [Ch ’95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ckens” chickens [C&amp;C ’97a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ckens chickens chickens chickens [Ch ’00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ckens chickens chick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ckens/chickens [Ch ’01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cken [C. Ch ’97b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ick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Chicken 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Chicken chicken 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3T22:51:59Z</dcterms:created>
  <dc:creator>dougz</dc:creator>
  <dc:description/>
  <dc:language>en-US</dc:language>
  <cp:lastModifiedBy>dougz</cp:lastModifiedBy>
  <dcterms:modified xsi:type="dcterms:W3CDTF">2002-05-17T23:08:31Z</dcterms:modified>
  <cp:revision>6</cp:revision>
  <dc:subject/>
  <dc:title>Chicken Chicken Chicken: Chicken Chicken</dc:title>
</cp:coreProperties>
</file>