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B10-F68C-4C91-8BBB-DC0A0CC0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5CF-117E-48C7-A766-DC375E8F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B5BB-608C-4400-B403-2016F84D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0B7-58C9-4181-A81B-8621FA5F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97CA-72F0-4FF7-9DD6-5E073CCF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E1DC-91B6-4247-A87D-C6D1EFA3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9E23-E494-4438-9374-3F78D27D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0D47-26F8-494E-8145-07803C4C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9736-73CF-4EEC-81B6-A302C8E6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3842-A28A-4224-A48C-9351C37C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8FC1-9EB3-4CA7-BC6C-A35BA8B8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E8B-DF71-443E-9CF8-68BE6218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BD54-125F-4978-B3F6-8F2FEF9E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24DE-D5A3-41DF-A0C7-09CBEBA8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FCF7-24F8-438A-ACBA-AE263541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730C-5B26-4DAF-9056-68B1A4E4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C860-5B11-4A92-83CA-48313839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7A3-95F0-4707-8ED6-CDBA8619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674-114F-4F6F-AFCD-20CF8FE5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297-8949-4BE2-85C2-E4515314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477-1CEC-4AA1-A415-761ED112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DB7-881D-4A6E-A559-7E379956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451-AA7C-4C5A-BA37-1498713C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C46-003C-48FB-913A-F3121D4A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71F9-BEA1-47D0-A4D8-7D8E3BC2E1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ACD5-C9EC-4136-9C3E-920C869C3C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 Chicken Chicken: Chicken 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g Zong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ity of Washing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scatter1" descr=""/>
          <p:cNvPicPr/>
          <p:nvPr/>
        </p:nvPicPr>
        <p:blipFill>
          <a:blip r:embed="rId1"/>
          <a:stretch/>
        </p:blipFill>
        <p:spPr>
          <a:xfrm>
            <a:off x="1413000" y="684360"/>
            <a:ext cx="735012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scatter2" descr=""/>
          <p:cNvPicPr/>
          <p:nvPr/>
        </p:nvPicPr>
        <p:blipFill>
          <a:blip r:embed="rId1"/>
          <a:stretch/>
        </p:blipFill>
        <p:spPr>
          <a:xfrm>
            <a:off x="1415880" y="681120"/>
            <a:ext cx="7350120" cy="548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scatter3" descr=""/>
          <p:cNvPicPr/>
          <p:nvPr/>
        </p:nvPicPr>
        <p:blipFill>
          <a:blip r:embed="rId1"/>
          <a:stretch/>
        </p:blipFill>
        <p:spPr>
          <a:xfrm>
            <a:off x="1415880" y="681120"/>
            <a:ext cx="7350120" cy="548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block1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block2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lock3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lock4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block5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lock6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block7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 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block8" descr=""/>
          <p:cNvPicPr/>
          <p:nvPr/>
        </p:nvPicPr>
        <p:blipFill>
          <a:blip r:embed="rId1"/>
          <a:stretch/>
        </p:blipFill>
        <p:spPr>
          <a:xfrm>
            <a:off x="2112840" y="230040"/>
            <a:ext cx="491832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icken 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speed1" descr=""/>
          <p:cNvPicPr/>
          <p:nvPr/>
        </p:nvPicPr>
        <p:blipFill>
          <a:blip r:embed="rId1"/>
          <a:stretch/>
        </p:blipFill>
        <p:spPr>
          <a:xfrm>
            <a:off x="73080" y="136440"/>
            <a:ext cx="86472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speed2" descr=""/>
          <p:cNvPicPr/>
          <p:nvPr/>
        </p:nvPicPr>
        <p:blipFill>
          <a:blip r:embed="rId1"/>
          <a:stretch/>
        </p:blipFill>
        <p:spPr>
          <a:xfrm>
            <a:off x="73080" y="136440"/>
            <a:ext cx="86472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speed3" descr=""/>
          <p:cNvPicPr/>
          <p:nvPr/>
        </p:nvPicPr>
        <p:blipFill>
          <a:blip r:embed="rId1"/>
          <a:stretch/>
        </p:blipFill>
        <p:spPr>
          <a:xfrm>
            <a:off x="73080" y="136440"/>
            <a:ext cx="86472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speed4" descr=""/>
          <p:cNvPicPr/>
          <p:nvPr/>
        </p:nvPicPr>
        <p:blipFill>
          <a:blip r:embed="rId1"/>
          <a:stretch/>
        </p:blipFill>
        <p:spPr>
          <a:xfrm>
            <a:off x="73080" y="136440"/>
            <a:ext cx="86472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speed5" descr=""/>
          <p:cNvPicPr/>
          <p:nvPr/>
        </p:nvPicPr>
        <p:blipFill>
          <a:blip r:embed="rId1"/>
          <a:stretch/>
        </p:blipFill>
        <p:spPr>
          <a:xfrm>
            <a:off x="73080" y="136440"/>
            <a:ext cx="86472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peed6" descr=""/>
          <p:cNvPicPr/>
          <p:nvPr/>
        </p:nvPicPr>
        <p:blipFill>
          <a:blip r:embed="rId1"/>
          <a:stretch/>
        </p:blipFill>
        <p:spPr>
          <a:xfrm>
            <a:off x="73080" y="136440"/>
            <a:ext cx="86472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cken chick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s chic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 C-10493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cken chicken chicke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ccc://chicken.chicken.chk/~chickens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19240" y="0"/>
            <a:ext cx="5105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Tahoma"/>
              </a:rPr>
              <a:t>Chicken chicken, chicken chicken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 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flow1" descr=""/>
          <p:cNvPicPr/>
          <p:nvPr/>
        </p:nvPicPr>
        <p:blipFill>
          <a:blip r:embed="rId1"/>
          <a:stretch/>
        </p:blipFill>
        <p:spPr>
          <a:xfrm>
            <a:off x="1828800" y="2193840"/>
            <a:ext cx="53341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s chickens 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ckens chick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eq3" descr=""/>
          <p:cNvPicPr/>
          <p:nvPr/>
        </p:nvPicPr>
        <p:blipFill>
          <a:blip r:embed="rId1"/>
          <a:stretch/>
        </p:blipFill>
        <p:spPr>
          <a:xfrm>
            <a:off x="2514600" y="5867280"/>
            <a:ext cx="4113360" cy="541440"/>
          </a:xfrm>
          <a:prstGeom prst="rect">
            <a:avLst/>
          </a:prstGeom>
          <a:ln w="0">
            <a:noFill/>
          </a:ln>
        </p:spPr>
      </p:pic>
      <p:pic>
        <p:nvPicPr>
          <p:cNvPr id="143" name="eq2" descr=""/>
          <p:cNvPicPr/>
          <p:nvPr/>
        </p:nvPicPr>
        <p:blipFill>
          <a:blip r:embed="rId2"/>
          <a:stretch/>
        </p:blipFill>
        <p:spPr>
          <a:xfrm>
            <a:off x="1784520" y="2643120"/>
            <a:ext cx="5573520" cy="1131840"/>
          </a:xfrm>
          <a:prstGeom prst="rect">
            <a:avLst/>
          </a:prstGeom>
          <a:ln w="0">
            <a:noFill/>
          </a:ln>
        </p:spPr>
      </p:pic>
      <p:pic>
        <p:nvPicPr>
          <p:cNvPr id="144" name="eq1" descr=""/>
          <p:cNvPicPr/>
          <p:nvPr/>
        </p:nvPicPr>
        <p:blipFill>
          <a:blip r:embed="rId3"/>
          <a:stretch/>
        </p:blipFill>
        <p:spPr>
          <a:xfrm>
            <a:off x="1503360" y="4809960"/>
            <a:ext cx="6135840" cy="905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81080" y="4038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 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flow2" descr=""/>
          <p:cNvPicPr/>
          <p:nvPr/>
        </p:nvPicPr>
        <p:blipFill>
          <a:blip r:embed="rId1"/>
          <a:stretch/>
        </p:blipFill>
        <p:spPr>
          <a:xfrm>
            <a:off x="1827360" y="2192400"/>
            <a:ext cx="53290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 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flow3" descr=""/>
          <p:cNvPicPr/>
          <p:nvPr/>
        </p:nvPicPr>
        <p:blipFill>
          <a:blip r:embed="rId1"/>
          <a:stretch/>
        </p:blipFill>
        <p:spPr>
          <a:xfrm>
            <a:off x="1827360" y="2192400"/>
            <a:ext cx="5329080" cy="404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 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flow3" descr=""/>
          <p:cNvPicPr/>
          <p:nvPr/>
        </p:nvPicPr>
        <p:blipFill>
          <a:blip r:embed="rId1"/>
          <a:stretch/>
        </p:blipFill>
        <p:spPr>
          <a:xfrm>
            <a:off x="1827360" y="2192400"/>
            <a:ext cx="5329080" cy="404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3565440"/>
            <a:ext cx="754380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hicken: 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hicken chicken </a:t>
            </a:r>
            <a:r>
              <a:rPr b="1" lang="en-US" sz="4000" spc="-1" strike="noStrike">
                <a:solidFill>
                  <a:srgbClr val="ffcf01"/>
                </a:solidFill>
                <a:latin typeface="Tahoma"/>
              </a:rPr>
              <a:t>chicken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chickens chick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 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 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cken chicken/chic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-chicken [Ch ’95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s” chickens [C&amp;C ’97a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s chickens chickens chickens [Ch ’00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ckens chickens chic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s/chickens [Ch ’0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cken [C. Ch ’97b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ic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Chicken chicken chi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22:51:59Z</dcterms:created>
  <dc:creator>dougz</dc:creator>
  <dc:description/>
  <dc:language>en-US</dc:language>
  <cp:lastModifiedBy>dougz</cp:lastModifiedBy>
  <dcterms:modified xsi:type="dcterms:W3CDTF">2002-05-17T23:08:31Z</dcterms:modified>
  <cp:revision>6</cp:revision>
  <dc:subject/>
  <dc:title>Chicken Chicken Chicken: Chicken Chicken</dc:title>
</cp:coreProperties>
</file>